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0948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756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7140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0948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756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280" y="1250640"/>
            <a:ext cx="85201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0948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7560" y="190620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7140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0948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7560" y="4159080"/>
            <a:ext cx="251208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280" y="1250640"/>
            <a:ext cx="85201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9560" y="415908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560" y="1906200"/>
            <a:ext cx="380736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1400" y="4159080"/>
            <a:ext cx="7802640" cy="20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9320" cy="2674800"/>
            <a:chOff x="0" y="0"/>
            <a:chExt cx="9139320" cy="2674800"/>
          </a:xfrm>
        </p:grpSpPr>
        <p:graphicFrame>
          <p:nvGraphicFramePr>
            <p:cNvPr id="1" name=""/>
            <p:cNvGraphicFramePr/>
            <p:nvPr/>
          </p:nvGraphicFramePr>
          <p:xfrm>
            <a:off x="0" y="0"/>
            <a:ext cx="9139320" cy="267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9139320" cy="26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7157880" y="836640"/>
              <a:ext cx="198144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609480" y="836640"/>
              <a:ext cx="604548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2232000" y="6545160"/>
            <a:ext cx="4788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33"/>
                </a:solidFill>
                <a:latin typeface="Arial Narrow"/>
              </a:rPr>
              <a:t>PNRH – planejando juntos nosso futuro hídrico com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381720"/>
            <a:ext cx="2133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38FD493-73C2-4642-8D61-904ABBD3E999}" type="slidenum">
              <a:rPr b="0" lang="en-GB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5913360"/>
            <a:ext cx="1152360" cy="9622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301400"/>
            <a:ext cx="82231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312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6560" indent="-27936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39320" cy="2674800"/>
            <a:chOff x="0" y="0"/>
            <a:chExt cx="9139320" cy="2674800"/>
          </a:xfrm>
        </p:grpSpPr>
        <p:graphicFrame>
          <p:nvGraphicFramePr>
            <p:cNvPr id="47" name=""/>
            <p:cNvGraphicFramePr/>
            <p:nvPr/>
          </p:nvGraphicFramePr>
          <p:xfrm>
            <a:off x="0" y="0"/>
            <a:ext cx="9139320" cy="2674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0"/>
                      <a:ext cx="9139320" cy="267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7157880" y="836640"/>
              <a:ext cx="1981440" cy="63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609480" y="836640"/>
              <a:ext cx="604548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1250640"/>
            <a:ext cx="85201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26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36560" indent="-27936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92560" y="4114800"/>
            <a:ext cx="219384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54380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3200" spc="-1" strike="noStrike">
              <a:solidFill>
                <a:srgbClr val="000080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3281400"/>
            <a:ext cx="853452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800080"/>
                </a:solidFill>
                <a:uFillTx/>
                <a:latin typeface="Arial"/>
              </a:rPr>
              <a:t>ESTÁGIO ATUAL  DE  DESENVOLV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6324480"/>
            <a:ext cx="3657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CNRH - 20 de dezembro,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01760" y="1957320"/>
            <a:ext cx="8534160" cy="46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Operacionalização das Comissões Executiva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80"/>
                </a:solidFill>
                <a:latin typeface="Arial"/>
              </a:rPr>
              <a:t>(Instituídas pela Portaria nº 274 da Sra. Ministra Marina Sil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Articulações do GTCE com as 12 Comissões Executivas Regionais (CER'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Amazônica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Viviani Alves e Andre Pol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Sávio José Barros de Mendonç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Secretaria Executiva Adjunta de Recursos Hídricos – SDS/SEARH-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Atlântico Leste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Viviani Alves e Andre 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Aldo Carvalho Andra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Superintendência de Recursos Hídricos- 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Atlântico Nordeste Ocidental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Og Rubert e Danella C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Raimundo Nonato Medeiros da Sil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Associação Brasileira de Engenharia Sanitária – A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7160" y="1074600"/>
            <a:ext cx="1054080" cy="932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312560"/>
            <a:ext cx="58676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24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2070000"/>
            <a:ext cx="85345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Operacionalização das Comissões Executiva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80"/>
                </a:solidFill>
                <a:latin typeface="Arial"/>
              </a:rPr>
              <a:t>(Instituídas pela Portaria nº 274 da Sra. Ministra Marina Sil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Atlântico Nordeste Oriental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Percy Neto e Flavio Nascimento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Raimundo Sérgio Santos Gó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Secretaria Extraordinária Meio Ambiente, dos Recursos Hídricos e Minerais- P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Atlântico Sudeste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Og Rubert e Daniella C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Thereza Christina de Almeida Ro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Associação Brasileira de Recursos Hídricos/ABRH-R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Atlântico Sul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Og Rubert e Daniella C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Cláudio Ramos Floriani Jun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Companhia Catarinense de Águas e Saneamento – CASAN/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7440" y="1224000"/>
            <a:ext cx="1054080" cy="9316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120" y="1388880"/>
            <a:ext cx="58676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24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5040" y="2246400"/>
            <a:ext cx="853452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Operacionalização das Comissões Executiva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80"/>
                </a:solidFill>
                <a:latin typeface="Arial"/>
              </a:rPr>
              <a:t>(Instituídas pela Portaria nº 274 da Sra. Ministra Marina Sil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do Paraguai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Viviani Alves e Andre 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em discuss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do Paraná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Percy Neto e Flavio Nas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Everton Luiz de Sou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Associação Brasileira de Águas Subterrâneas – ABAS-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do Parnaíba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Og Rubert e Daniella C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Milcíades Gadelha de 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Secretaria do Meio Ambiente e Recursos Hídricos – SEMAR/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2440" y="1295280"/>
            <a:ext cx="1054080" cy="932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388880"/>
            <a:ext cx="58676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24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5040" y="2246400"/>
            <a:ext cx="853452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Operacionalização das Comissões Executivas Reg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80"/>
                </a:solidFill>
                <a:latin typeface="Arial"/>
              </a:rPr>
              <a:t>(Instituídas pela Portaria nº 274 da Sra. Ministra Marina Sil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do São Francisco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Percy Neto e Flavio Nascime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a Regional: Yvonilde Dantas Pinto Mede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Universidade Federal da Bahia – 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do Tocantins-Araguaia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Viviani Alves e Andre 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a Regional: Iracema Aparecida Siqueira Frei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: Secret. Planej. e Meio Ambiente – SEPLAN-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80"/>
                </a:solidFill>
                <a:latin typeface="Wingdings"/>
                <a:ea typeface="Wingdings"/>
              </a:rPr>
              <a:t>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 u="sng">
                <a:solidFill>
                  <a:srgbClr val="000080"/>
                </a:solidFill>
                <a:uFillTx/>
                <a:latin typeface="Arial"/>
                <a:ea typeface="Wingdings"/>
              </a:rPr>
              <a:t>CER do Uruguai</a:t>
            </a:r>
            <a:r>
              <a:rPr b="1" lang="en-GB" sz="1600" spc="-1" strike="noStrike">
                <a:solidFill>
                  <a:srgbClr val="000080"/>
                </a:solidFill>
                <a:latin typeface="Arial"/>
                <a:ea typeface="Wingding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Responsáveis na SRH: Percy Neto e Flavio Nas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ordenador Regional: Paulo Renato Pa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nstituiçãoo: Departamento de Recursos Hídricos – SEMA-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2440" y="1295280"/>
            <a:ext cx="1054080" cy="9320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120" y="1388880"/>
            <a:ext cx="58676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24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7280" y="2714760"/>
            <a:ext cx="85518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Termos de Referência concluídos para 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Estudos de Caráter N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Disponibilidade de Águas Superficiais e Subterrâne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Demanda de Águas Superficiais e Subterrânea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Quliadade da Água Superfici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Qualidade da Águas Subterrân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  <a:ea typeface="Wingdings"/>
              </a:rPr>
              <a:t>Organização e Temário de Ofic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Oficina com a Sociedade Civi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440" y="1582560"/>
            <a:ext cx="1054080" cy="932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676160"/>
            <a:ext cx="586764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24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fe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0120" y="2149560"/>
            <a:ext cx="853452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800080"/>
                </a:solidFill>
                <a:uFillTx/>
                <a:latin typeface="Arial"/>
              </a:rPr>
              <a:t>Outras A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lestras e Vídeo Conferência C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Discussão dos Termos de Referência dos Estudos Region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Itemização dos Cadernos Regiona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Discussões finais entre a Secretaria de Recursos Hídricos e a Agência Nacion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Águas para o desenvolvimento dos primeiros 4 (quatro) estudos de caráter n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para o PNRH, de acordo com os Termos de Referência (TdR'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Conclusão da  escolha das Variáveis do Processo de Cenarização do PNR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Atores e Estratégias de Atores do Processo de Cenarizaçã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Wingdings"/>
              </a:rPr>
              <a:t>Em discussão com a Câmara Técnica do PNRH (CTPNRH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22440" y="1582560"/>
            <a:ext cx="1054080" cy="932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5040" y="1447560"/>
            <a:ext cx="5867280" cy="7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Plano Nacional de Recursos Hídricos</a:t>
            </a:r>
            <a:endParaRPr b="0" lang="en-US" sz="2400" spc="-1" strike="noStrike">
              <a:solidFill>
                <a:srgbClr val="000080"/>
              </a:solidFill>
              <a:latin typeface="Arial Narrow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